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9D3-5EE1-4BDD-A947-2F172C92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1A1-D445-47E1-9AA7-BC1F39D3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6E6-DB3B-4586-8D2D-5DA668A1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398-3D48-45CA-81BB-075039F7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2251-20D9-44CE-AE5F-5C427E06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1465-24EF-422F-B40C-523AFE39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1FF1-997B-417B-9165-C60A4C8D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197D-837D-422A-998B-4388DAB2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FB1B-4042-41BC-82F7-DC89B13B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C540-0924-4853-A512-9C573BA9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F5C4-04CB-4831-A7DD-9DF8FCD3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2F3-977C-4E85-A87B-2FC3692F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52DC-C34D-414C-96B6-799C5F21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0B2E-92D3-43E4-BA39-EE2A62B6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48DC-D15B-4562-97E1-95C42AAC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38BE-329C-4128-8846-3E42148A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937A-DCA5-4EDC-B2F4-D7550AF5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869-6BB9-4665-99FB-A6488883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058-E0C0-4F04-8562-0DBAB8AD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F4C-2206-4DD4-9B0B-8BDF5EA4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744-63C5-40D3-9821-EE9DCFA2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530-BA27-4F67-90E4-B7BB36DE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31E-E3FE-4B25-8592-DDB470B2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A99-6819-496D-8311-38E408D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8115-1E6C-4E5F-821C-684650E5443F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7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A196-66AD-4E81-9F06-3B0502D8B5B9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4640" y="1143000"/>
            <a:ext cx="63993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pt-BR" sz="5400" spc="-1" strike="noStrike">
                <a:solidFill>
                  <a:srgbClr val="0033cc"/>
                </a:solidFill>
                <a:latin typeface="Arial Narrow"/>
              </a:rPr>
              <a:t>Drogas: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2520" y="4419720"/>
            <a:ext cx="4038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66ff"/>
                </a:solidFill>
                <a:latin typeface="Arial"/>
              </a:rPr>
              <a:t>Regina Ju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6668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66ff"/>
                </a:solidFill>
                <a:latin typeface="Arial Narrow"/>
              </a:rPr>
              <a:t>retorno??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1828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66ff"/>
                </a:solidFill>
                <a:latin typeface="Arial Narrow"/>
              </a:rPr>
              <a:t>ida:uma opçã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6880" y="838080"/>
            <a:ext cx="64771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 Narrow"/>
              </a:rPr>
              <a:t>Ei, prova aí... Tá com medo, é? Fofinho da mamãe!</a:t>
            </a:r>
            <a:br>
              <a:rPr sz="4800"/>
            </a:br>
            <a:r>
              <a:rPr b="1" lang="pt-BR" sz="4800" spc="-1" strike="noStrike">
                <a:solidFill>
                  <a:srgbClr val="ffff00"/>
                </a:solidFill>
                <a:latin typeface="Arial Narrow"/>
              </a:rPr>
              <a:t>É só uma vez...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8" name="PE01496_" descr=""/>
          <p:cNvPicPr/>
          <p:nvPr/>
        </p:nvPicPr>
        <p:blipFill>
          <a:blip r:embed="rId1"/>
          <a:stretch/>
        </p:blipFill>
        <p:spPr>
          <a:xfrm>
            <a:off x="3962520" y="2666880"/>
            <a:ext cx="292248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6880" y="190512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ff00"/>
                </a:solidFill>
                <a:latin typeface="Arial Narrow"/>
              </a:rPr>
              <a:t>Muita Gente Só Pula Da Ponte Uma Vez Também!</a:t>
            </a:r>
            <a:endParaRPr b="1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76520" y="1371600"/>
            <a:ext cx="53337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lvl="4" marL="18309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ff"/>
                </a:solidFill>
                <a:latin typeface="Carmine Tango"/>
              </a:rPr>
              <a:t>O que leva uma pessoa ao uso de droga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3581280"/>
            <a:ext cx="1371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819520"/>
            <a:ext cx="533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1360" y="2514600"/>
            <a:ext cx="60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3640" y="16002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609480"/>
            <a:ext cx="45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1120" y="129528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600" y="685440"/>
            <a:ext cx="6400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ccff66"/>
                </a:solidFill>
                <a:latin typeface="Arial"/>
              </a:rPr>
              <a:t>Drogas estimulantes do SN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Fumo (taba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Cocaí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C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Mer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Anfetam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66ff"/>
                </a:solidFill>
                <a:latin typeface="Arial"/>
              </a:rPr>
              <a:t>Anaboliz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d60093"/>
                </a:solidFill>
                <a:latin typeface="Arial Narrow"/>
              </a:rPr>
              <a:t>Fum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pt-BR" sz="3200" spc="-1" strike="noStrike">
                <a:solidFill>
                  <a:srgbClr val="d60093"/>
                </a:solidFill>
                <a:latin typeface="Arial"/>
                <a:ea typeface="Times New Roman"/>
              </a:rPr>
              <a:t>O Tabaco</a:t>
            </a:r>
            <a:r>
              <a:rPr b="0" lang="pt-BR" sz="3200" spc="-1" strike="noStrike">
                <a:solidFill>
                  <a:srgbClr val="d6009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60093"/>
                </a:solidFill>
                <a:latin typeface="Arial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d60093"/>
                </a:solidFill>
                <a:latin typeface="Arial"/>
                <a:ea typeface="Times New Roman"/>
              </a:rPr>
              <a:t>Coquetel de aproximadamente 4000 substâncias - quase todas nocivas, 40 a 60 têm efeito cancerígeno - é mais consumido por causa da dor que causa na ausência do que pelo prazer que proporciona na freqüência. As primeiras tragadas são, em geral, acompanhadas de náusea, tontura e ânsia de vômito (o mesmo ocorre na crise de abstinência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14600" y="685440"/>
            <a:ext cx="6400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60093"/>
                </a:solidFill>
                <a:latin typeface="Arial"/>
                <a:ea typeface="Times New Roman"/>
              </a:rPr>
              <a:t>Instalado o vício, nenhum fumante jura sentir-se mais vivaz, diligente, tranqüilo ou moderado à mesa, por obra do cigarro. Mas se não fumar, o dependente fica zonzo, ansioso, negligente e glut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60093"/>
                </a:solidFill>
                <a:latin typeface="Arial"/>
                <a:ea typeface="Times New Roman"/>
              </a:rPr>
              <a:t>    </a:t>
            </a:r>
            <a:r>
              <a:rPr b="0" lang="pt-BR" sz="2800" spc="-1" strike="noStrike">
                <a:solidFill>
                  <a:srgbClr val="d60093"/>
                </a:solidFill>
                <a:latin typeface="Arial"/>
                <a:ea typeface="Times New Roman"/>
              </a:rPr>
              <a:t>Para manter o equilíbrio emocional, o fumante se intoxica com substâncias como o monóxido de carbono, mesma substância presente no escapamento dos carros e na fumaça do cigarro.</a:t>
            </a:r>
            <a:br>
              <a:rPr sz="2800"/>
            </a:br>
            <a:r>
              <a:rPr b="0" lang="pt-BR" sz="2800" spc="-1" strike="noStrike">
                <a:solidFill>
                  <a:srgbClr val="d60093"/>
                </a:solidFill>
                <a:latin typeface="Arial"/>
                <a:ea typeface="Times New Roman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14600" y="19807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 </a:t>
            </a:r>
            <a:r>
              <a:rPr b="0" lang="pt-BR" sz="2800" spc="-1" strike="noStrike">
                <a:solidFill>
                  <a:srgbClr val="ff99ff"/>
                </a:solidFill>
                <a:latin typeface="Arial"/>
                <a:ea typeface="Times New Roman"/>
              </a:rPr>
              <a:t>A nicotina estreita os vasos sangüíneos e libera hormônios que aumentam a pressão arterial - uma das causas do infarto. O alcatrão se acumula nos pulmões e causa enfisema, uma doença grave e incurável.</a:t>
            </a:r>
            <a:br>
              <a:rPr sz="2800"/>
            </a:br>
            <a:r>
              <a:rPr b="0" lang="pt-BR" sz="2800" spc="-1" strike="noStrike">
                <a:solidFill>
                  <a:srgbClr val="ff99ff"/>
                </a:solidFill>
                <a:latin typeface="Arial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533160"/>
            <a:ext cx="64771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d60093"/>
                </a:solidFill>
                <a:latin typeface="Times New Roman"/>
              </a:rPr>
              <a:t>O tabaco não altera o estado mental.</a:t>
            </a:r>
            <a:br>
              <a:rPr sz="3200"/>
            </a:br>
            <a:r>
              <a:rPr b="0" lang="pt-BR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d60093"/>
                </a:solidFill>
                <a:latin typeface="Times New Roman"/>
              </a:rPr>
              <a:t>A partir da tragada, em 7s a nicotina chega ao cérebro através da circulação, entrando em contato com os receptores das células nervosas.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3581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A nicotina “engana” a célula nervosa, simulando a acetilcolina. Essa substância estimula a liberação de dopanina – estimulante da sensação de prazer- e amplifica a duração de bem est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77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O organismo reage, criando novos pontos de ligação da acetilcolina.</a:t>
            </a:r>
            <a:br>
              <a:rPr sz="2800"/>
            </a:b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Saída: fumar mais.</a:t>
            </a:r>
            <a:br>
              <a:rPr sz="2800"/>
            </a:b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i="1" lang="pt-BR" sz="3600" spc="-1" strike="noStrike">
                <a:solidFill>
                  <a:srgbClr val="d60093"/>
                </a:solidFill>
                <a:latin typeface="Arial"/>
              </a:rPr>
              <a:t>Vício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36232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Nicotina:      adrena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Os fumantes aprendem a extrair o efeito desej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Melhora a memória, a concentração, a sensação de prazer, diminuição da ra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d60093"/>
                </a:solidFill>
                <a:latin typeface="Arial"/>
              </a:rPr>
              <a:t>Acelera o metabolis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48320" y="2133720"/>
            <a:ext cx="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d60093"/>
                </a:solidFill>
                <a:latin typeface="Arial Narrow"/>
              </a:rPr>
              <a:t>Crise de Abstinênci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d60093"/>
                </a:solidFill>
                <a:latin typeface="Arial"/>
              </a:rPr>
              <a:t>Nicotina suspensa: organismo em desequilíb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d60093"/>
                </a:solidFill>
                <a:latin typeface="Arial"/>
              </a:rPr>
              <a:t>Quando a nicotina se decompõe – 20 a 30 min – o fumante ascende outro cigar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653760"/>
            <a:ext cx="6399360" cy="109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Arial Narrow"/>
              </a:rPr>
              <a:t>Drogas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76360" y="2285640"/>
            <a:ext cx="55623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rodutos químicos – “psicotrópicos ou psicoativos, de origem natural ou de laboratório que produzem efeitos, sentidos como prazerosos, pelo S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d60093"/>
                </a:solidFill>
                <a:latin typeface="Arial Narrow"/>
              </a:rPr>
              <a:t>Malefícios do cigarr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75% dos casos de bronqui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25% dos casos de infarto do miocárdi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100 a 800% de risco de aumento de contrair infecções respiratórias - bacterianas e vira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câncer da boca, faringe, laringe, esôfago, pâncreas, pulmão, rins, bexiga e colo do úter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arteriosclerose, aneurisma da aorta, problemas vasculares cerebra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aumento de rugas e celuli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dificuldade de cicatriza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d60093"/>
                </a:solidFill>
                <a:latin typeface="Arial"/>
              </a:rPr>
              <a:t>cigarro + anticoncepcional = 8X mais chance de infar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 Narrow"/>
              </a:rPr>
              <a:t>Derivados da coc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666880"/>
            <a:ext cx="1752480" cy="764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Co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5146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1981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oca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r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4495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Mer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657600" y="2514600"/>
            <a:ext cx="13716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1143000" cy="6098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240" y="3429000"/>
            <a:ext cx="609480" cy="1143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6600ff"/>
                </a:solidFill>
                <a:latin typeface="Arial Narrow"/>
              </a:rPr>
              <a:t>Cocaín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Pó branco obtido do arbusto de coca – </a:t>
            </a:r>
            <a:r>
              <a:rPr b="0" i="1" lang="pt-BR" sz="2800" spc="-1" strike="noStrike">
                <a:solidFill>
                  <a:srgbClr val="ffff00"/>
                </a:solidFill>
                <a:latin typeface="Arial"/>
              </a:rPr>
              <a:t>Erythroxylon coca –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ou epadu, uma planta cultivada em certas regiões da Bolívia e do Pe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Entre os viciados, a cocaína  é inalada, injetada na veia, fumada com tabaco ou ingerida na bebida alcoól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Provoca forte dependência psíquica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ff"/>
                </a:solidFill>
                <a:latin typeface="Arial Narrow"/>
              </a:rPr>
              <a:t>Após a inalação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Mais energi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Agitaçã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Eufori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Grande força muscula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Vivacidade ment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Desaparece o cansaç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6600ff"/>
                </a:solidFill>
                <a:latin typeface="Arial Narrow"/>
              </a:rPr>
              <a:t>Efeitos fisiológico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asoconstri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iminui a circulação da mucosa loc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Irritação da mucosa, pode perfurar o sep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ores no pei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umento da freqüência respiratór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Taquicard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Falta de a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Hipertensão arteri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Inchaço pulmonar e hemorragia nos alvéol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liminação de sangue pela tos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6600ff"/>
                </a:solidFill>
                <a:latin typeface="Arial Narrow"/>
              </a:rPr>
              <a:t>Consumo habitual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Perturbações de memóri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Perda da capacidade ment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Apati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Delírios de perseguição e alucinaçõ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Agressivi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Atos anti-sociais gra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9900"/>
                </a:solidFill>
                <a:latin typeface="Arial Narrow"/>
              </a:rPr>
              <a:t>Cr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00"/>
                </a:solidFill>
                <a:latin typeface="Arial"/>
              </a:rPr>
              <a:t>É a cocaína transformada com o uso de soda cáustica ou bicarbonato de sódio para se tornar própria para o fumo: cocaína solidificada e fumada na forma de cristais ou ped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00"/>
                </a:solidFill>
                <a:latin typeface="Arial"/>
              </a:rPr>
              <a:t>É cinco vezes mais potente do que a cocaí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00"/>
                </a:solidFill>
                <a:latin typeface="Arial"/>
              </a:rPr>
              <a:t>Vicia rapidamente e o mata de forma fumin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9900"/>
                </a:solidFill>
                <a:latin typeface="Arial Narrow"/>
              </a:rPr>
              <a:t>Mecanism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g de cocaína – 8 pedras de cr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00"/>
                </a:solidFill>
                <a:latin typeface="Arial"/>
              </a:rPr>
              <a:t>Em 8s seu efeito destruidor já é apar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00"/>
                </a:solidFill>
                <a:latin typeface="Arial"/>
              </a:rPr>
              <a:t>Promove acúmulo de dopamina nos feixes nervo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00"/>
                </a:solidFill>
                <a:latin typeface="Arial"/>
              </a:rPr>
              <a:t>Bloqueia o mecanismo de recaptura de dopamina na fenda sináptica, superestimando os receptores molec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9900"/>
                </a:solidFill>
                <a:latin typeface="Arial Narrow"/>
              </a:rPr>
              <a:t>Conseqüências do uso de</a:t>
            </a: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pt-BR" sz="4800" spc="-1" strike="noStrike">
                <a:solidFill>
                  <a:srgbClr val="ff9900"/>
                </a:solidFill>
                <a:latin typeface="Arial Narrow"/>
              </a:rPr>
              <a:t>cr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Eufor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Desinibi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Agitação psicomotor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Taquicard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Dilatação da pupil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Aumento da PA e da transpira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Alucinações visuais ou táte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Diminui a fo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Altera os centros límbicos relacionados ao praz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9933"/>
                </a:solidFill>
                <a:latin typeface="Arial Narrow"/>
              </a:rPr>
              <a:t>A euforia dura pouc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Arial"/>
              </a:rPr>
              <a:t>Logo induz à escalada quantitativ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Arial"/>
              </a:rPr>
              <a:t>Ao perceber que há demasiados receptores na sinapse, estes são reduzid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Arial"/>
              </a:rPr>
              <a:t>Assim, as sinapses tornam-se lent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Arial"/>
              </a:rPr>
              <a:t>Depressão após a eufor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Arial"/>
              </a:rPr>
              <a:t>Sensação de medo e de paranóia (</a:t>
            </a:r>
            <a:r>
              <a:rPr b="0" i="1" lang="pt-BR" sz="2400" spc="-1" strike="noStrike">
                <a:solidFill>
                  <a:srgbClr val="ff9933"/>
                </a:solidFill>
                <a:latin typeface="Arial"/>
              </a:rPr>
              <a:t>nóia), o que torna os usuários agress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 Narrow"/>
              </a:rPr>
              <a:t>Motivações para o uso de drog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lívio da 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Busca do pra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Busca da transcendê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c99ff"/>
                </a:solidFill>
                <a:latin typeface="Arial Narrow"/>
              </a:rPr>
              <a:t>Merl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ff"/>
                </a:solidFill>
                <a:latin typeface="Arial"/>
              </a:rPr>
              <a:t>Derivada da cocaí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ff"/>
                </a:solidFill>
                <a:latin typeface="Arial"/>
              </a:rPr>
              <a:t>Esta é tratada com álcalis, solvente orgânico como querosene, gasolina ou ácido sulfúr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ff"/>
                </a:solidFill>
                <a:latin typeface="Arial"/>
              </a:rPr>
              <a:t>Droga típica do D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ff"/>
                </a:solidFill>
                <a:latin typeface="Arial"/>
              </a:rPr>
              <a:t>Conhecida também como melado (Pará), bazuco (Amazônia), mela (Rondôn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c99ff"/>
                </a:solidFill>
                <a:latin typeface="Arial Narrow"/>
              </a:rPr>
              <a:t>Constituição e prepar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99ff"/>
                </a:solidFill>
                <a:latin typeface="Times New Roman"/>
              </a:rPr>
              <a:t>Os solventes químicos são adicionados às folhas secas, obtendo-se uma substância pastos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99ff"/>
                </a:solidFill>
                <a:latin typeface="Times New Roman"/>
              </a:rPr>
              <a:t>Deste refino, é formada uma borra da qual é produzida a mer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99ff"/>
                </a:solidFill>
                <a:latin typeface="Times New Roman"/>
              </a:rPr>
              <a:t>A concentração de cocaína na merla varia de 40 a 7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99ff"/>
                </a:solidFill>
                <a:latin typeface="Times New Roman"/>
              </a:rPr>
              <a:t>O restante constitui-se de solução de bateria, querosene, pó de ladrilho, pó de giz, farinha de plátamo, aspirina, entre out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99ff"/>
                </a:solidFill>
                <a:latin typeface="Times New Roman"/>
              </a:rPr>
              <a:t>É usada na forma d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cc99ff"/>
                </a:solidFill>
                <a:latin typeface="Times New Roman"/>
              </a:rPr>
              <a:t>fu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66ff"/>
                </a:solidFill>
                <a:latin typeface="Arial Narrow"/>
              </a:rPr>
              <a:t>Dependênci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66ff"/>
                </a:solidFill>
                <a:latin typeface="Arial"/>
              </a:rPr>
              <a:t>Vem em dias, traduzida por um sintoma conhecido como </a:t>
            </a:r>
            <a:r>
              <a:rPr b="0" i="1" lang="pt-BR" sz="2800" spc="-1" strike="noStrike">
                <a:solidFill>
                  <a:srgbClr val="ff66ff"/>
                </a:solidFill>
                <a:latin typeface="Arial"/>
              </a:rPr>
              <a:t>craving</a:t>
            </a:r>
            <a:r>
              <a:rPr b="0" lang="pt-BR" sz="2800" spc="-1" strike="noStrike">
                <a:solidFill>
                  <a:srgbClr val="ff66ff"/>
                </a:solidFill>
                <a:latin typeface="Arial"/>
              </a:rPr>
              <a:t> ou fissura: vontade incontrolável de fumar m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66ff"/>
                </a:solidFill>
                <a:latin typeface="Arial"/>
              </a:rPr>
              <a:t>A merla é altamente tóxic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66ff"/>
                </a:solidFill>
                <a:latin typeface="Arial"/>
              </a:rPr>
              <a:t>É absorvida rapidamente pelos pulmõ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66ff"/>
                </a:solidFill>
                <a:latin typeface="Arial"/>
              </a:rPr>
              <a:t>Chega ao sangue, atinge o cérebro, promovendo  excitação do S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c99ff"/>
                </a:solidFill>
                <a:latin typeface="Arial Narrow"/>
              </a:rPr>
              <a:t>Após o uso da merl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99ff"/>
                </a:solidFill>
                <a:latin typeface="Arial"/>
              </a:rPr>
              <a:t>Semanas após o uso contínuo da merla, há perda de apetite, de peso, sonolência e cansaço constante, porém há incapacidade de conciliar o so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99ff"/>
                </a:solidFill>
                <a:latin typeface="Arial"/>
              </a:rPr>
              <a:t>O uso contínuo induz a graves danos cerebrais que podem ser irreversíve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99ff"/>
                </a:solidFill>
                <a:latin typeface="Arial"/>
              </a:rPr>
              <a:t>Perda progressiva do desejo sexual que conduz à impotência e à frig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99ff"/>
                </a:solidFill>
                <a:latin typeface="Arial"/>
              </a:rPr>
              <a:t>Incapacidade de concentraç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99ff"/>
                </a:solidFill>
                <a:latin typeface="Arial Narrow"/>
              </a:rPr>
              <a:t>Dependência</a:t>
            </a: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ff"/>
                </a:solidFill>
                <a:latin typeface="Arial"/>
              </a:rPr>
              <a:t>Ocorre dependência psíqu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ff"/>
                </a:solidFill>
                <a:latin typeface="Arial"/>
              </a:rPr>
              <a:t>Dependência física ainda em estu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ff"/>
                </a:solidFill>
                <a:latin typeface="Arial"/>
              </a:rPr>
              <a:t>O uso prolongado leva à depressão, podendo levar ao suicíd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ff"/>
                </a:solidFill>
                <a:latin typeface="Arial"/>
              </a:rPr>
              <a:t>Pode causar fibrose pulmonar e, devido aos solventes, perda dos 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ff"/>
                </a:solidFill>
                <a:latin typeface="Arial"/>
              </a:rPr>
              <a:t>O usuário torna-se agressivo e viol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248520" cy="1600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ff00"/>
                </a:solidFill>
                <a:latin typeface="Arial Narrow"/>
              </a:rPr>
              <a:t>Anfetaminas ou bolinh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Drogas sintéticas que agem de maneira amp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A primeira foi a D-anfetamina (dextroanfetamina) – 192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Entrou no mercado em 193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Outras fabricadas em laboratório: dietilpropina, metanfetamina (já tirada do mercado brasileiro), preludim, mazind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Muito usadas durante a II Guerra Mundial a fim de fazer os soldados resistirem à fadiga e à f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ff00"/>
                </a:solidFill>
                <a:latin typeface="Arial Narrow"/>
              </a:rPr>
              <a:t>Via de administração e mecanismo de açã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São tomadas como comprimidos ou injetadas na ve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Aumentam a atividade motor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Provocam inapetência, euforia e cortam a sonolê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O organismo fica em estado de estresse, com freqüência cardíaca e PA aument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Arial"/>
              </a:rPr>
              <a:t>Promovem dilatação das pupilas (midrí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nfetaminas :risco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6858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00"/>
                </a:solidFill>
                <a:latin typeface="Arial"/>
              </a:rPr>
              <a:t>São usados em moderadores de apet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00"/>
                </a:solidFill>
                <a:latin typeface="Arial"/>
              </a:rPr>
              <a:t>Devido ao risco de tolerância e de dependência só podem ser vendidos sob receita méd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00"/>
                </a:solidFill>
                <a:latin typeface="Arial"/>
              </a:rPr>
              <a:t>São usadas ilegalmente para obter excitação ou reduzir a fadiga e o sono antes das provas ou de competições atléticas (</a:t>
            </a:r>
            <a:r>
              <a:rPr b="0" i="1" lang="pt-BR" sz="2800" spc="-1" strike="noStrike">
                <a:solidFill>
                  <a:srgbClr val="00ff00"/>
                </a:solidFill>
                <a:latin typeface="Arial"/>
              </a:rPr>
              <a:t>dopping</a:t>
            </a:r>
            <a:r>
              <a:rPr b="0" lang="pt-BR" sz="2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ff00"/>
                </a:solidFill>
                <a:latin typeface="Arial Narrow"/>
              </a:rPr>
              <a:t>Mais conseqüênci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00"/>
                </a:solidFill>
                <a:latin typeface="Arial"/>
              </a:rPr>
              <a:t>Com o aumento das doses, surgem sintomas como a esquizofrenia (a pessoa fica irritadiça, agressiva, começa a suspeitar que outros estão tramando contra ela, tem alucinações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00"/>
                </a:solidFill>
                <a:latin typeface="Arial"/>
              </a:rPr>
              <a:t>Pode levar à insônia, perda de peso danos ao fígado e aos rins, suicídio ou morte por intoxic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0000"/>
                </a:solidFill>
                <a:latin typeface="Arial Narrow"/>
              </a:rPr>
              <a:t>Anabolizant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Times New Roman"/>
              </a:rPr>
              <a:t>Esteróides anabolizantes são derivados síntéticos da testostero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Times New Roman"/>
              </a:rPr>
              <a:t>Não há estudos que comprovem aumento da força física e potência musc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Times New Roman"/>
              </a:rPr>
              <a:t>Não há estudos que confirmem que há dependência, embora usuários desta droga experimentem crises de depressão</a:t>
            </a:r>
            <a:r>
              <a:rPr b="0" lang="pt-BR" sz="28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 Narrow"/>
              </a:rPr>
              <a:t>Dependênci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ode ser ou não acompanhada  da síndrome da abstinê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0000"/>
                </a:solidFill>
                <a:latin typeface="Arial Narrow"/>
              </a:rPr>
              <a:t>Como agem os esteróides anabolizant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1- A testosterona que está no sangue atravessa com facilidade a parede da célula até chegar ao citoplasma. Com anabolizante, a quantidade maior de hormônios obriga a célula a usar receptores para todas as pequenas molécu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2- Mesmo sendo um hormônio sintetizado, o anabolizante tem o mesmo formato que o hormônio natural. No citoplasma da célula, encaixa-se nos receptores androgênicos, responsáveis exclusivos pelo transporte do hormônio mascul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14600" y="456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3- O complexo formado pela testosterona e pelo receptor androgênico entra no núcleo, onde está o DNA da célula. Cada complexo se combina com uma parte do DNA e, a partir daí, forma-se o chamado RNA mensageiro (RNA</a:t>
            </a:r>
            <a:r>
              <a:rPr b="0" lang="pt-BR" sz="2400" spc="-1" strike="noStrike" baseline="-30000">
                <a:solidFill>
                  <a:srgbClr val="ffff66"/>
                </a:solidFill>
                <a:latin typeface="Arial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4- O RNA</a:t>
            </a:r>
            <a:r>
              <a:rPr b="0" lang="pt-BR" sz="2400" spc="-1" strike="noStrike" baseline="-30000">
                <a:solidFill>
                  <a:srgbClr val="ffff66"/>
                </a:solidFill>
                <a:latin typeface="Arial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leva o código transmitido pelo DNA de volta para o citoplasma e se encaixa nos ribossomos. A partir daí, inicia-se a fase efetiva da síntese protéica, pois os RNA transportadores - RNA</a:t>
            </a:r>
            <a:r>
              <a:rPr b="0" lang="pt-BR" sz="2400" spc="-1" strike="noStrike" baseline="-30000">
                <a:solidFill>
                  <a:srgbClr val="ffff66"/>
                </a:solidFill>
                <a:latin typeface="Arial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(moléculas que carregam o aminoácido) já podem transportar os formadores da proteína até o local da síntese proté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904760" y="304560"/>
            <a:ext cx="69339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5- Cada RNA</a:t>
            </a:r>
            <a:r>
              <a:rPr b="0" lang="pt-BR" sz="2400" spc="-1" strike="noStrike" baseline="-30000">
                <a:solidFill>
                  <a:srgbClr val="ffff66"/>
                </a:solidFill>
                <a:latin typeface="Arial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que carrega um aminoácido se fixa em uma parte do complexo ribossomo-RNA</a:t>
            </a:r>
            <a:r>
              <a:rPr b="0" lang="pt-BR" sz="2400" spc="-1" strike="noStrike" baseline="-30000">
                <a:solidFill>
                  <a:srgbClr val="ffff66"/>
                </a:solidFill>
                <a:latin typeface="Arial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, levando seu respectivo aminoácido. Toda a fita, formada por combinações do código genético, recebe os RNA transportadores com seus respectivos aminoácidos, que vão se juntando até formar uma enorme cadeia. Essa cadeia é a proteí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6- Quando o atleta usa anabolizantes, há muitas partículas de hormônio masculino no citoplasma na fase 1. Isso acelera a atividade da célula e provoca a síntese de mais proteínas que o normal. Como as células musculares não se multiplicam, elas ficam hipertrofiadas de proteínas e crescem além do normal. A massa muscular, como conseqüência, aumenta em cerca de três a quatro sema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feitos colaterais dos anabolizantes em ambos os sexo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pt-BR" sz="24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CÉREB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1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dores de cabe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2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ton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3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umento da agressiv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4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irritaç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5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lteração do hu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6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comportamento anti-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7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paranó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8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depres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9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xcitação e insô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438280" y="3805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ORAÇÃ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umento do músculo cardíaco, que pode levar a infarto em jov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FÍGADO E SISTEMA DIGES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1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umento da produção da enzima transaminase, responsável pelo metabolismo das substâncias. O órgão passa a trabalhar demais. Foram registrados casos de tumor, cirrose, icterícia, tumor e </a:t>
            </a:r>
            <a:r>
              <a:rPr b="0" i="1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peliosis hepatis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(cistos cheios de sangue que podem levar a hemorragi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2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náuseas e vômi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8483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RINS E APARELHO URINÁRI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dema devido à retenção de água e sais minerais (sódio, cloretos, fosfato, potássio e cálcio). Os rins ficam sobrecarregados e, em longo prazo, podem aparecer tumores, queimação e dores ao urin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PARELHO REPRODU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1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ster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2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umento da libido inicialmente e queda depois do uso repet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ELE: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1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cne (tipo grave que deixa cicatrizes no rosto e no corp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2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st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3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padrões masculinos de calvíc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4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calaf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95280" y="228240"/>
            <a:ext cx="746784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ÚSCULOS E LIGAMEN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1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umento da massa muscular pelo depósito de proteínas nas fibras muscul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2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diminuição da quantidade de gordura do cor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3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mais chance de ruptura de liga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SISTEMA CIRCULATÓRIO E IMUNOLÓG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1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redução do bom colesterol (HDL) e aumento do mau colesterol (LDL), o que pode levar à hipertensão arte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2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umento do número de hemácias jovens e diminuição dos glóbulos brancos de def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3.</a:t>
            </a:r>
            <a:r>
              <a:rPr b="0" lang="pt-BR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nemia ferropriva (por deficiência de ferr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09320" y="380880"/>
            <a:ext cx="67057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OSS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Na puberdade, os anabolizantes aceleram o fechamento das epífises (regiões de ossos responsáveis pelo crescimento), reduzindo o período de crescimento, resultando em uma estatura men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286000" y="30456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m hom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rritabilidade na bex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ginecomastia (desenvolvimento excessivo da glândula mamária do hom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umento da freqüência de ere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trofia testi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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ligospermia (baixa de espermatozóides), podendo levar à esterilidade (são necessários de seis a 30 meses para que o homem volte à produção normal de espermatozóid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09680" y="456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m mulheres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  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hipertrofia do clitó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  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engrossamento da v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  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rregularidade menstr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  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umento de pêlos faciais e no cor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  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viriliz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880" y="9903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0066ff"/>
                </a:solidFill>
                <a:latin typeface="Arial Narrow"/>
              </a:rPr>
              <a:t>O dependente é um escravo da falta de opção: fica nas mãos da ignorância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66ff"/>
                </a:solidFill>
                <a:latin typeface="Arial"/>
              </a:rPr>
              <a:t>A falta de opção é a negação do livre-arbít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i="1" lang="pt-BR" sz="3200" spc="-1" strike="noStrike">
                <a:solidFill>
                  <a:srgbClr val="0066ff"/>
                </a:solidFill>
                <a:latin typeface="Arial"/>
              </a:rPr>
              <a:t>O poder de decisão nos torna livr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1760" y="3049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NABOLIZANTES ESTERÉRÓIDES X AMINOÁC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 maioria dos anabolizantes é derivada sintético do hormônio masculino testosterona, geralmente retirado do testículo do boi. A substância faz o anabolismo protéico que, associada a exercícios físicos, aumenta a massa musc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       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Tanto homens quanto mulheres produzem normalmente a testosterona. A hipófise, produz uma substância chamada gonadotrofina que avisa aos órgãos reprodutores que é necessária a produção de testosterona. Quando a testosterona está circulando no sangue, um mecanismo desliga a hipófise, que pára de enviar sinais para o organis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Mas quando se consome testosterona sintética, o organismo suspende o comando de liberação de gonadotrofina pela hipófise e, conseqüentemente, as funções dos testículos, onde se fabricam o hormônio e os espermatozóides. Por isso, o uso de anabolizantes causa infertilidade que, na maioria dos casos, é reversível com a suspensão da dro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      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Os anabolizantes não esteróides, como os aminoácidos, ajudam a sintetizar proteínas. São como os tijolos de uma parede. Só têm algum efeito se associados a uma alimentação adequada e exercícios físicos. Com uma dieta bem balanceada, com quantidades adequadas de proteínas, obtém-se o mesmo efeito, sem os riscos dos anabolizantes, que podem também levar à obes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14040" y="456840"/>
            <a:ext cx="70102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Além do uso de esteróides anabolizantes, existem mais quatro classes de </a:t>
            </a:r>
            <a:r>
              <a:rPr b="0" i="1" lang="pt-B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opping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estimulantes: visam diminuir a sensação de fadiga. Também servem para atletas de provas de longa duração, como maratona e marcha. Fazem parte desse grupo as anfetaminas, a efedrina, a cafeína e a cocaína (apesar de trazer mais prejuízos do que benefício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narcóticos analgésicos são usados para aliviar a dor. Empregados de maneira geral em todas as modal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133720" y="456840"/>
            <a:ext cx="6400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Diuréticos:  atendem a duas finalidades: para perder peso, nos casos de modalidades divididas em categorias, como boxe, judô e levantamento de peso ou para aumentar o volume da urina, para que traços de substâncias apareçam diluídos no ex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Esteróides anabolizantes: são utilizados em esportes que exigem força, explosão e velocidade, como levantamento de peso e atletis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0968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  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hormônio peptídico, substância natural cuja molécula é formada por dois aminoácidos e cuja principal função é a fixação de proteínas no organismo: utilizados em esportes de potência ou força pura, como arremesso, ciclismo, remo e levantamento de pe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    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eta-bloqueadores: atuam sobre a circulação provocando a diminuição dos batimentos cardíacos. É a droga dos esportes de alta precisão, como tiro ao alvo e arco e fech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33cc"/>
                </a:solidFill>
                <a:latin typeface="Arial Narrow"/>
              </a:rPr>
              <a:t>Escalad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Quantita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33cc"/>
                </a:solidFill>
                <a:latin typeface="Arial"/>
              </a:rPr>
              <a:t>Uso ocasional        uso contínuo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Qualita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33cc"/>
                </a:solidFill>
                <a:latin typeface="Arial"/>
              </a:rPr>
              <a:t>Produtos leves        produtos pes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3048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ff"/>
                </a:solidFill>
                <a:latin typeface="Arial Narrow"/>
              </a:rPr>
              <a:t>Tipos de usuários de drog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ff"/>
                </a:solidFill>
                <a:latin typeface="Arial"/>
              </a:rPr>
              <a:t>Experimentador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perimenta um ou várias substâncias sem dar continuidade ao us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ff"/>
                </a:solidFill>
                <a:latin typeface="Arial"/>
              </a:rPr>
              <a:t>Usuário casual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tiliza uma ou várias substâncias sem rupturas nas relações afetivas, sociais ou profissiona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ff"/>
                </a:solidFill>
                <a:latin typeface="Arial"/>
              </a:rPr>
              <a:t>Usuário habitual ou “funcion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”: já apresenta sinais de ruptur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ff"/>
                </a:solidFill>
                <a:latin typeface="Arial"/>
              </a:rPr>
              <a:t>Usuário dependente ou “disfuncional”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pendente químico, toxicômano, drogadito):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vive da droga e para a droga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 rupturas de seus vínculos socia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 Narrow"/>
              </a:rPr>
              <a:t>Tolerância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O organismo reage cada vez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menos ao produto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Aumento da dose...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4400" spc="-1" strike="noStrike">
                <a:solidFill>
                  <a:srgbClr val="ffff00"/>
                </a:solidFill>
                <a:latin typeface="Arial"/>
              </a:rPr>
              <a:t>Overd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 Narrow"/>
              </a:rPr>
              <a:t>Adolescência..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ff"/>
                </a:solidFill>
                <a:latin typeface="Arial"/>
              </a:rPr>
              <a:t>Quero ir à boate hoje e não tenho hora para vol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Você ainda é muito jovem, novo demais para este tipo de programa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ff"/>
                </a:solidFill>
                <a:latin typeface="Arial"/>
              </a:rPr>
              <a:t>Ei, é natal. Cadê meu presen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Você não acha que já está grandinho demais, quase adul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15:54:06Z</dcterms:created>
  <dc:creator>Carlos &amp; Regina</dc:creator>
  <dc:description/>
  <dc:language>en-US</dc:language>
  <cp:lastModifiedBy>LEO</cp:lastModifiedBy>
  <dcterms:modified xsi:type="dcterms:W3CDTF">2000-09-07T12:43:35Z</dcterms:modified>
  <cp:revision>21</cp:revision>
  <dc:subject/>
  <dc:title>Drogas</dc:title>
</cp:coreProperties>
</file>